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1.jpeg" ContentType="image/jpeg"/>
  <Override PartName="/ppt/media/image13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95B0-FF0C-405A-B957-510EC6F60F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F8FC-60ED-4CA0-8104-729B453435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94BD-1C6A-418D-9A2A-29D227A180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4B60-AD20-434C-A2A8-AFC0DE8431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806E-BF7C-4C89-95AE-23B61299E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39A0-0EB0-40C8-BC99-3D15BA6331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5320-1F09-46F7-9386-2486CBB1C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E885-A138-4A76-82CF-01B967150F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5447-116B-4EC9-8B2F-FE5EDC3E1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0DB2-444C-4DF8-A59A-34F5387F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501C-1CD3-4F62-AB01-E38A490E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0CEC-625D-4997-ADF9-364ED69E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A208-DC66-46F4-BCF4-5D771EAD2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7E23-B37B-40D7-ACCE-531F86C5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5574-5AC1-422F-8545-C05DD453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BAED-A003-402D-8871-2E82D2FB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FC8B-C216-442F-ADEE-322EE733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CD68-81EF-4DFB-8459-9C8E94FE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4692-D572-49CB-B349-3AE9FEC1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0065-B52F-4E7A-B992-E56B613E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A958-3566-41F3-B128-D2220E57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F2B1-8424-459D-B633-5AD167A3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702B-A6E0-4B99-B866-1EE7A84A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D532-01D0-42DE-AE36-2A81B6C97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ACD4-C235-454E-A6C1-26355C80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87DDB-B92B-41D3-8E16-311267331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6FA16-EDF9-4692-904B-FB7542EB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F5214-4A88-46E3-AC71-1E04A214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028FC-054C-40BC-AA67-5E6C157E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6B197-D65B-47ED-A6A4-AD40336F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68DC-3A8B-4057-9862-F1B51C75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3C385-FA58-4093-A5AA-B43F6222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57EE7-B5CF-452F-966E-54784135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55287-EAD6-4888-8809-2784500A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BEBA8-BF5F-4A8D-B0E7-F87D1274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D6727-54D7-414E-AE7C-C539F8E9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4CE60-0B04-42E6-B98C-A2B4150F5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0AB07-7100-42BF-AECB-4723D4970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9BB04-DFCD-4DA1-A88F-4816095C0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AD497-75B1-4E38-9397-C5706576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6C9C1-E764-4DF6-A5C7-45948ED4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6DB4-88C3-44E8-BAF0-B7837E8A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DA4D2-A090-4001-86BF-3A8A3984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7CE77-3FF5-460C-85C7-DAE960C5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4A1C4-04CD-4CCC-BEF4-02AD6AE8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A9955-1A33-456A-84E6-06577298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1615F-8F1C-4C14-A84B-5803B617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0762D-B7AA-484E-8C3A-13A5112F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453C8-1FD1-4E86-B468-FF94FD1F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96495-D74D-494E-882F-FCA56B3A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39760-D9CD-4F17-9190-553EDCEF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5F29-3A04-4D35-84D1-405BE5C9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7851-C68B-4611-A9F6-96DABC67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5ACA-BD47-4BFB-93EA-60F7FD29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0C3B-A6AE-4622-9CA8-04BC3DE7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099D-2E89-465F-A3BF-AD039933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5959-6D94-4542-B88D-D5F843E5CAC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EE67-792C-4A1C-80D2-A6A9FDF0FAA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6794-F458-46DB-8864-4282DF362F1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2482-8ACA-4D00-ADCC-9DFEB0D5B41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907920"/>
            <a:ext cx="8583480" cy="2365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Reflective Work by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aniel Cox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500" spc="-1" strike="noStrike">
                <a:solidFill>
                  <a:srgbClr val="04617b"/>
                </a:solidFill>
                <a:latin typeface="Calibri"/>
              </a:rPr>
              <a:t>#6 Going backward means going forward……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Content Placeholder 4" descr="one way signs.jpg"/>
          <p:cNvPicPr/>
          <p:nvPr/>
        </p:nvPicPr>
        <p:blipFill>
          <a:blip r:embed="rId1"/>
          <a:stretch/>
        </p:blipFill>
        <p:spPr>
          <a:xfrm>
            <a:off x="1447920" y="1981080"/>
            <a:ext cx="6248160" cy="419112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#5: 10 + 8 = 6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Content Placeholder 3" descr="dan quayle.jpg"/>
          <p:cNvPicPr/>
          <p:nvPr/>
        </p:nvPicPr>
        <p:blipFill>
          <a:blip r:embed="rId1"/>
          <a:stretch/>
        </p:blipFill>
        <p:spPr>
          <a:xfrm>
            <a:off x="2543040" y="1935000"/>
            <a:ext cx="4057920" cy="438948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500" spc="-1" strike="noStrike">
                <a:solidFill>
                  <a:srgbClr val="04617b"/>
                </a:solidFill>
                <a:latin typeface="Calibri"/>
              </a:rPr>
              <a:t>#4: MEL isn’t just the cook on Alice…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Content Placeholder 3" descr="mel.jpg"/>
          <p:cNvPicPr/>
          <p:nvPr/>
        </p:nvPicPr>
        <p:blipFill>
          <a:blip r:embed="rId1"/>
          <a:stretch/>
        </p:blipFill>
        <p:spPr>
          <a:xfrm>
            <a:off x="2811600" y="1935000"/>
            <a:ext cx="3520800" cy="438948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#3: Being old does not just mean I am closer to AARP….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Content Placeholder 3" descr="old man.bmp"/>
          <p:cNvPicPr/>
          <p:nvPr/>
        </p:nvPicPr>
        <p:blipFill>
          <a:blip r:embed="rId1"/>
          <a:stretch/>
        </p:blipFill>
        <p:spPr>
          <a:xfrm>
            <a:off x="3247920" y="2154240"/>
            <a:ext cx="2648160" cy="3952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#2: Assessments that count for nothing can show everything….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Content Placeholder 6" descr="sleep-learning.jpg"/>
          <p:cNvPicPr/>
          <p:nvPr/>
        </p:nvPicPr>
        <p:blipFill>
          <a:blip r:embed="rId1"/>
          <a:stretch/>
        </p:blipFill>
        <p:spPr>
          <a:xfrm>
            <a:off x="457200" y="279252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214" name="Content Placeholder 7" descr="graduation_cap.bmp"/>
          <p:cNvPicPr/>
          <p:nvPr/>
        </p:nvPicPr>
        <p:blipFill>
          <a:blip r:embed="rId2"/>
          <a:stretch/>
        </p:blipFill>
        <p:spPr>
          <a:xfrm>
            <a:off x="4819680" y="2233440"/>
            <a:ext cx="3695760" cy="3810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#1: Job satisfaction is more than just a big paycheck….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Content Placeholder 3" descr="money room.bmp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17:28:58Z</dcterms:created>
  <dc:creator>Dan</dc:creator>
  <dc:description/>
  <dc:language>en-US</dc:language>
  <cp:lastModifiedBy>Dan</cp:lastModifiedBy>
  <dcterms:modified xsi:type="dcterms:W3CDTF">2008-05-07T23:30:19Z</dcterms:modified>
  <cp:revision>16</cp:revision>
  <dc:subject/>
  <dc:title>6 things I learned in Practicum</dc:title>
</cp:coreProperties>
</file>